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74B-4B89-4FB5-BC19-353B75A7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B22-6DDB-4A91-89C1-E9034A4A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0F1-5D68-471F-9FD7-E94F6819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759-EF8F-4F22-978C-21AAE62E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5B3D7-F3F9-4094-9A48-317BC6EC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3DE3-9EDB-492A-B579-0D193B54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E7CE7-76C3-429B-B253-28FCA91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3D661-532F-45C6-863A-F51D8EAD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2C56E-76FA-4BA6-B9EB-CC1BDF2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C2BE1-40ED-4D7E-92F5-DA242504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6F26-4F40-4832-9ED1-F7818DF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72C-1F2A-40EA-9952-B67204A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35840-D438-43C1-AEBF-AB54E70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28FB-CA1E-4469-B072-36827AA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5665-22E4-4610-AB64-60C6585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501C-47AB-4299-BD36-C93147D5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835B3-EC59-4945-A0CA-DCFD43F8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2BB-0DFB-46FB-9E1C-7D827250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8B6-1AE0-460B-B49E-1BAFF94B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893-757D-4D19-AC29-121B486D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8B9-07E7-4F0E-BBF3-E707F1C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087-ED42-4C02-9293-0854F5E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E72-F44A-40BF-85A1-F7B91DA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330-0E81-465E-B770-3036EB4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8BD9-8CCB-4B6A-A775-81A177B44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454-B2DE-4B38-93E5-73127DB58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etching Linear Equ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5228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68580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1219320"/>
            <a:ext cx="609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15228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68580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1219320"/>
            <a:ext cx="60984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1905120"/>
            <a:ext cx="12193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=3X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8280" y="3124080"/>
            <a:ext cx="4191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15228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685800"/>
            <a:ext cx="609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219320"/>
            <a:ext cx="609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1880" y="15228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685800"/>
            <a:ext cx="60984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1219320"/>
            <a:ext cx="60984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1905120"/>
            <a:ext cx="12193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=3X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9880" y="1371240"/>
            <a:ext cx="190512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29:51Z</dcterms:created>
  <dc:creator>Ben M</dc:creator>
  <dc:description/>
  <dc:language>en-US</dc:language>
  <cp:lastModifiedBy>Ben M</cp:lastModifiedBy>
  <dcterms:modified xsi:type="dcterms:W3CDTF">2008-02-20T08:39:37Z</dcterms:modified>
  <cp:revision>2</cp:revision>
  <dc:subject/>
  <dc:title>Sketching Linear Equations</dc:title>
</cp:coreProperties>
</file>